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0D9B-AF3F-4991-B35D-C5F135FC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204-4476-48C5-9EA7-28FE393B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4EE-963D-4E1F-888F-4548DF98A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7FCF-1497-4113-8556-358365557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3CCF-D4B2-4ABF-917C-66A2D7FF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230E-A58D-456B-822B-B435D42F4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3200-92E2-4496-8708-8194A061C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38CA-925C-470B-B541-9C39FF476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9192-D42B-472A-9C81-2AC5F239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426-9206-4B88-B579-584E35D1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1332-EABF-4997-8DAC-D1E6204D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8127-5B7B-4A74-BFA3-36A5A7381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7075-7B02-401A-968F-ADEBCDA1E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BD8C-7737-4096-B061-095E0D554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7C5E-5968-411F-9D68-67C33A5C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9F82-E365-4D87-B8A3-1FD98AF54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9A64-2D15-4F9B-A963-0ACC4FD6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264E-3AF7-4B20-A78C-86D40BC1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F998-AE01-4DD8-8F23-132C4EEDD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63C6-F807-4171-A08A-60D7B6C72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845C-6D97-40DF-A0E2-30FD6544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0730-8CF8-4F08-877B-30F64799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6DB7-8646-4898-8EAC-0269BC26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1254-42AB-4991-B204-ADB9F7C08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6997-63D9-45B4-A987-ECCE14D8D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BF1A-3290-4C72-A2B2-52F1CA7F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9BFE-79A6-4E10-B875-A618C029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2F85-1CDB-4506-878A-C51AD94AC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FEE5-8E06-4852-82BA-E95855A16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C438-4CD0-495C-BBE4-1E86458C5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8B1D-6711-4AE0-9EB3-0383B543C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FEA7-44E6-4649-95AB-259E09ECE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49C5-BD32-425A-815D-161DBCC1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217D-33E5-4349-9BC2-7CC342AFD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3CD9-BD97-4935-99D8-4EBD015D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211B-DF77-4C14-AC60-21D3313DB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0B79-BD9D-40A0-8673-9A0CFEFF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FD3-B952-4481-8985-8AC816D5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4B08-DAEF-4CA5-8947-A1373A6B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9809-D115-4BB0-AD0B-6631D8A8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63F2-197E-434A-8A3E-980D4288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C717-9408-4C35-AFCF-E5882536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3E02-705E-442A-8522-80060008B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EEB4-F4FD-415C-802E-C2D3CF05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60A8-0843-4956-A895-F754C0AA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1C22-E3BB-4532-83FF-4680DFAE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DA17-321F-4BB2-A4CA-842F7ED4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8325-22D7-45D4-BC69-CBEF992A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2137-D928-411D-9E3C-713B6CF0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3BF9-69C5-4813-825A-3E63A2367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03A7-4B1B-47D8-A06B-2B9A9827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F7DC-D970-45BE-BE2D-C190BE50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7F63-4201-48E6-97D8-A92F0122D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3E6-6958-40AD-9701-2B640841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39E4-4465-45EA-A96E-395D78221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D91D-B264-4699-8B57-D92AC6EC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1A03-DC31-44D2-91AA-3B3EA9327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4568-A0D3-4ABA-B023-8CA0141EC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CCAC-7AE2-4319-A7F3-C481FEEA6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CF49-AE35-4E11-8B48-E63427CF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FD8-70DB-4C9C-A922-3C6C6592D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F812-AF78-4F06-9CF3-E3CDD34F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3315-65C4-4E58-A312-7500ACC4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A563-3EB3-49E4-94A4-21EA58C4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7628-E3B9-4377-919F-8AEE0E26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0E23-3142-48D7-B13B-B31BE5CA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4463-5B1F-4616-BF04-D3722BC6F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0C66-CDBF-4BB2-AFBE-AA4F2C1BF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DE62-A41B-49F2-B11E-EDEF3C35D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3CC-F194-43FA-9D3E-15A3D7118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400D-A1E5-444E-AEB3-8799EAEDC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E56F-9EF8-42AD-8A3C-063F9530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13C6-17C6-48CC-BD2B-2DA1C694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A03-A076-4101-A3E8-C7976F0D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533-F9AD-4A44-BE0D-75D7FD23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9900-DC88-45CE-BB1B-4F0758977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8EA4-F0FE-441C-ADB2-A2930EE63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25DA-4346-43DC-8DF1-96C4A7D8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B875-0934-402F-89C3-5E3CA0F2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2A01-B934-4E48-9CB7-34DCFB0A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1B40-57BF-4542-B38F-822D8163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6C8F-4B95-47B8-ACCF-3AFBF016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2B20-EA99-4D14-A1CA-E31660C8B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03B8-71E7-4D6A-87C3-E2A49E5C7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2073-658C-4CA3-B461-5A5FC6AD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92DC-DCA7-4589-A90F-8E4C33F1E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0F1-E90F-44EE-B272-474A4D71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A419-5CA4-4D5D-BBBC-6C574E79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E03A-3871-4601-BAA4-9A8A3D3C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386-5FF3-4817-ABAF-AC4F83D2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0BC-0B7C-46FE-A10A-7D25BC39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F1A-2C91-441F-BE3B-B92A4B48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1E4-AC19-4842-AEC0-97A82F6F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B02-948E-46B5-B1A6-CA28ACEB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B49-8EB8-474F-AEEB-DFA82BFD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31E-CEE5-4626-BC5D-3D51ADF5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C24-54E3-47BE-95AF-66E65EB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0C3-F8CB-47D1-ACEC-810430F1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0F4-18D2-4B50-9DA1-84CE833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AA4-9448-485B-BCE8-1686C42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0E2-FC08-45D3-AAC9-FFEEAF6D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8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46C5-273E-47EF-A248-FB07A386D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WordPress SEO Secrets Reveal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hy You Should Optim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is actually pretty 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hy You Should Optim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is actually pretty 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ost people don’t  bother to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hy You Should Optim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is actually pretty 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ost people don’t  bother to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 can play a big part in increasing your natural search engine ran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hy You Should Optim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is actually pretty 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ost people don’t  bother to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 can play a big part in increasing your natural search engine ran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Bottom Line: The results far outweigh the time required to do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Overview of the Basics of SE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ctual Pag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ctual Pag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itl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ctual Pag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itl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eta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What is SE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ctual Pag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itl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eta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Header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ctual Pag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itl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eta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Header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Bold, Italics, &amp; Underl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ctual Pag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itl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eta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Header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Bold, Italics, &amp; Underl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Basic SEO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ctual Pag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itl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eta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Header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Bold, Italics, &amp; Underl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Keywor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Proper Link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WordPress Plugins You Will N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l In One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l In One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XML Site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l In One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XML Site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No Du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l In One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XML Site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No Du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Friendly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S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l In One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XML Site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No Du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Friendly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Re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l In One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XML Site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No Du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Friendly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Re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ubscribing t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l In One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XML Site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No Du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Friendly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Re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ubscribing t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ordPress 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l In One 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XML Site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No Du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EO Friendly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Re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ubscribing t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Popularity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Installing and Activating Your Plugi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Optimizing Your Permalink Struc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/%category%/%postname%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Understanding Keyword Researc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High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</a:rPr>
              <a:t>Sear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S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High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Low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High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Low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onnected to what you are promo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Keywor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2819160"/>
            <a:ext cx="8381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https://adwords.google.com/ select/KeywordToolExte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Keyword Research Case Stu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Overview of an Optimized Po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Optimized 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Optimized 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Optimized 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mportance of header t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Optimized 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mportance of header t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talics, bold, underl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Optimized 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mportance of header t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talics, bold, underl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Good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</a:rPr>
              <a:t>Sear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</a:rPr>
              <a:t>Eng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S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Optimized 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mportance of header t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talics, bold, underl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Good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Keyword t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Optimized 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mportance of header t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Italics, bold, underl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Good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Keyword t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Optimized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Configuring the All in One SEO Plug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Choosing a Title for Your Po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A Good Title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A Good Title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escrip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A Good Title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escrip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Researc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A Good Title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escrip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Researc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Ent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A Good Title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escrip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Researc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Ent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Not “Stuff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The Importance of Header Tag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</a:rPr>
              <a:t>Sear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</a:rPr>
              <a:t>Eng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</a:rPr>
              <a:t>Optimiz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S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Working with Italics, Bold, and Underlin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The Power of Good Cont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Creating Title and Keyword Tags for Your Po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Using the SEO Friendly Images Plugin to Optimize Imag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Dealing with URL Canon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Upgrade Your WordPress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(2.3 or Higher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Connecting Posts with the Related Posts Plug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The Importance of Limiting Links with “NoFollow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Google XML Sitemaps Plug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Customizing Redirects with the Redirection Plug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1760" y="2133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SEO includes preparing, creating, and promoting your site in the best way possi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Importance of Interacting with your Rea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Creating Polls with WP Po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Running a “Popularity Contest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Encouraging Comm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Subscribing to Comments Plug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Integrating Facebook with your B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Integrating Twitter with your B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The Power of Feedburn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Tracking Your Blog Statistics with Google Analyt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Analyzing Your Statist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Why You Should Optimize Your WordPress B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Promotion Overvie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Article Marke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Facebook Marke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Twitter Marke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YouTube Marke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Forum Marke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Blog Marke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Requesting Links from Relevant Websi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Rounded MT Bold"/>
              </a:rPr>
              <a:t>Conclu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Why You Should Optim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09:14:42Z</dcterms:created>
  <dc:creator>Matt</dc:creator>
  <dc:description/>
  <dc:language>en-US</dc:language>
  <cp:lastModifiedBy>Matt</cp:lastModifiedBy>
  <dcterms:modified xsi:type="dcterms:W3CDTF">2009-12-17T02:20:18Z</dcterms:modified>
  <cp:revision>229</cp:revision>
  <dc:subject/>
  <dc:title>Social Bookmarking</dc:title>
</cp:coreProperties>
</file>