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5FAB-0F65-4DE5-93E9-B45402AB0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42CF-F062-4CB7-B803-48CE5BC3B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9415-18AC-44E4-92BA-CD745D027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0438-0C87-48E8-87B8-86D8E100A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3E03-9A57-4CAE-BAFC-C5FE91A75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44C8-5216-4BAB-8811-13537BB78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6767-3ABA-4254-B2C5-406A9C6F7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4F23-64F3-4D61-A288-55FF5C762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AA2B-4ECD-4860-80E9-280D12683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9770-E21D-4FDF-AAFA-8BD869713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03E0-5FC6-4A07-95C3-0A0E23073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0502-82B8-4B71-971B-4886C94B1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EE3B-55B7-4B45-924D-28028E245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D44D-28ED-4C6D-9D91-0CF29FB1C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D438-EA01-40AB-9335-8D8B8B4EB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18A4-9D22-4E2A-9A47-1BBC17D79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C527-CE5A-4638-8D02-1E8986857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D0C6-A392-4C5E-9EE1-FCC2A132C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4BA4-4CF0-42BE-8090-75F7E17DB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80FC-008C-42F0-9B17-B467BF957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CFD0-C54B-447A-813C-70AC1939E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5944-A43C-4714-9C7D-E362F60ED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E244-F69B-4180-8531-E223EE322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9EAD-FB0A-4E3E-8361-334E5D811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C45B-1169-48FF-96D6-2D7B1BFFA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98AD-D975-4D7D-BEEC-6710E95B7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551D-FB6D-473B-8EF4-C381F6A1B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1CCC-6421-4259-8785-B3BBCDD7C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85C4-AF80-4B1A-83DF-85B28747A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315E-6595-43D7-95E5-E917197AB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FEB7-D218-4024-8DC5-174E37A14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6B1F-6A50-402A-A1E9-461108C0E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4E90-B460-484B-A316-6811AB420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72E9-54E0-4726-8603-7C825C88E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61C6-EBE0-4BD9-9954-D5B042F66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548C-4548-4A75-AA42-5140060BA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09C2-2E56-46A9-B201-961ECB886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2BB3-761D-41D5-8A56-68C4EBF0B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6DCA-283A-4570-81A7-3CACE94B1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9642-0788-43CC-BAEC-D6ACD8B01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84D0-E642-4A48-B547-3AFD56503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C68C-8B7E-45A9-8404-687ED4A11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BEA7-7F4C-444D-9A28-E3486D925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217E-0A16-4BC7-B91F-B6E422C21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A28F-3A60-4A51-B00B-8A6C851B2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744E-7FF9-49BE-B403-3C26E0B83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5117-0C97-40E0-AD2C-F1D1A778C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4DCD-DF3B-47C2-A522-2BEE88288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C20E-F16B-41B7-8FEB-46F85A1D3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FEFA-4976-4AC5-8FA2-25EDFC54B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9C8D-8635-4D00-ACF5-DD680EF3F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1A40-2303-4491-BB55-A0A0BD15C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D461-5EA6-4EFC-A261-49D61107C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B9D4-523D-4F46-910A-57F77EE9B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A58E-32AA-4B71-B0A5-9EB456D1B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0924-7C4A-41C4-8EF6-E52D48103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7E05-790E-4D77-993A-2D023C6A1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C786-6F11-4801-BF90-2F77D451D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FEDA-65C7-43B6-A9E8-42356C180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CF26-3F78-4A22-8DDE-78C0C1D53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DB8F-F8D9-47C5-B151-A840C0619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0A24-5C38-44C8-89F3-1D0F136CB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2F66-3B0F-4DFD-AB37-678DDCA64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211C-478B-46E3-9B62-D8CF4F02F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3FCA-854A-4F6F-B757-779489788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9A7B-07EC-40D7-9746-F563ACFE9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E36A-0044-49D7-A918-6188DA653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FF1F-4421-4DF1-8202-6F07D6465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9D55-98E6-4640-9DC8-435D8D7EB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4B28-B304-44C4-8A1B-78AF76D7D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7A4E-E12D-4627-AF56-D75429EEE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5624-22E8-40BA-8FD5-FB1CCE27D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EBEE-B8E0-43CA-9E46-B483E543A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6426-9F6C-4D5E-8667-0653AE633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8F43-BA1D-4DE0-9042-E7FFA6099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7C30-8FE3-43E3-9054-B55F69C96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933C-182E-4298-B7CE-C7F736194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CC70-49D3-4EFA-8E2F-FB52D14CB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0B25-CF11-4616-B0F7-F8EA0F026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F7F1-DA4F-4CEC-8FE7-6038B097A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6696-6F84-41E0-8C03-03095884E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6C21-4BAF-417F-A73D-8618C5A0E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2434-C5EC-4034-905E-524C119E9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0E13-26E3-4E4F-A63B-9256B8381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5B8F-2BDA-4822-8794-A2F300C11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9BA2-BD78-4513-840B-8AF401C68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3140-047F-4C88-BE6F-F51C2E96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7936-5133-46C0-AACB-ADDF7605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B7EC-AA6C-470B-9253-DC0CBFEA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3F25-2823-45D2-8B40-EBC53403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A631-DA5C-4CE5-9A16-7081CF7B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9C3F-FD9C-4DA2-8902-F4036D08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2A5F-47CF-45A1-A02B-8C25DF07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B73C-60B9-4C8E-B731-8306DD71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785F-4573-4B20-B822-53D9B0F6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7BB3-ACD2-4D2D-8AE3-644E169D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825D-01E2-4C3B-8FF2-B0CB466C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85D-79C1-44AC-862D-D0ADA088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206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1B57-FA9B-4D0A-87CE-1DED77572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YouTube Video Marketing Secre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ideo Marketing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“viral” video can be unstoppable once set in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 half of the traffic on the internet is now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ideo Marketing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“viral” video can be unstoppable once set in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 half of the traffic on the internet is now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deo marketing gives you access to tons of valuable back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ideo Marketing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“viral” video can be unstoppable once set in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 half of the traffic on the internet is now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deo marketing gives you access to tons of valuable back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are ahead of “the curv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ideo Marketing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“viral” video can be unstoppable once set in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 half of the traffic on the internet is now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deo marketing gives you access to tons of valuable back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are ahead of “the curv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ary to belief, easy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ays to Monetize Your Vide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netization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netization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mote your own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netization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mote your own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mote your own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netization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mote your own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mote your own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eate branding for your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netization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mote your own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mote your own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eate branding for your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mote affiliate products such as Click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at is Video Marketing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netization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mote your own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mote your own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eate branding for your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mote affiliate products such as Click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ild a list and promote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omponents of a Great Vide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mponents of a Great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mponents of a Great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esting and directed towards a target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mponents of a Great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esting and directed towards a target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tive and/or entert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mponents of a Great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esting and directed towards a target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tive and/or entert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aves the viewer wanting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mponents of a Great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esting and directed towards a target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tive and/or entert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aves the viewer wanting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aves the viewer feeling a need to come visit your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mponents of a Great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esting and directed towards a target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tive and/or entert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aves the viewer wanting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aves the viewer feeling a need to come visit your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s good potential to be “vir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mponents of a Great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esting and directed towards a target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tive and/or entert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aves the viewer wanting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aves the viewer feeling a need to come visit your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s good potential to be “vir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ears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reating a Script for your Slidesh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Video Marke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Making a Slideshow with OpenOffice Impr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reating a Video with CamStudi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reating a Video with CamStudi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dding Audio With Windows Movie Ma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reating a Screencapture Video with CamStudi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riting Your Video Descrip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ideo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ideo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t your full URL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ideo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t your full URL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de phrases that will lead the viewer to click on the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ideo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t your full URL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de phrases that will lead the viewer to click on the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tilize keywords in the description if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Video Marke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You Create a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Finding the Best Keywords to Targ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Keyword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3504960"/>
            <a:ext cx="88390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ttp://MattsFreeKeywordTool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#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#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2514600"/>
            <a:ext cx="7086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oo Much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#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2514600"/>
            <a:ext cx="7086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oo Much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You will not be able to   rank high enou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#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#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2514600"/>
            <a:ext cx="7086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ot Enough Sear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#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2640" y="2514600"/>
            <a:ext cx="7086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ot Enough Sear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You won’t get enough visito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Users\Matt\Desktop\ScreenHunter_02 May. 14 16.47.jpg"/>
          <p:cNvPicPr/>
          <p:nvPr/>
        </p:nvPicPr>
        <p:blipFill>
          <a:blip r:embed="rId1"/>
          <a:stretch/>
        </p:blipFill>
        <p:spPr>
          <a:xfrm>
            <a:off x="304920" y="1371600"/>
            <a:ext cx="8429400" cy="48513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att’s Keyword Gau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igning Up for a YouTube Accou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Video Marke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You Create a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You Submit the Video to Multiple Video 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Uploading Your Video to YouTub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Rating Your Vide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gging” Your Vide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Promoting Your Video on Additional Social Networking Si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dditional Social Networking 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dditional Social Networking 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mble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dditional Social Networking 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mble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.icio.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dditional Social Networking 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mble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.icio.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d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dditional Social Networking 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mble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.icio.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d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hnor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dditional Social Networking 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mble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.icio.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d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hnor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boo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Video Marke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You Create a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You Submit the Video to Multiple Video 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You Receive Backlinks and Traffic, as Your Video is Distributed Around the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dditional Social Networking 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mble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.icio.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d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hnor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boo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e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Promoting Your Video on Relevant Foru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Embedding Your Video on Your Webs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Embedding Your Video on Your Blo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dditional Video Websi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dditional Video 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dditional Video 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ogle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dditional Video 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ogle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ily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dditional Video 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ogle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ily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ahoo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dditional Video 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ogle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ily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ahoo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y You Need to Be Doing Video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dditional Video 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ogle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ily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ahoo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dditional Video 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ogle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ily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ahoo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 Power of Heyspre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 Power of Traffic Geys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 Power of Traffic Geys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If You Aren’t Using Video Marketing to Promote Your Websi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You Are Missing Out on a Huge, Huge, Opportunity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Introducing:</a:t>
            </a:r>
            <a:br>
              <a:rPr sz="7200"/>
            </a:b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Video Marketing Secrets Expos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It Will Show You How To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ideo Marketing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Create Professional Looking Videos From Scratch Without Expensive Softwa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Where to Submit Your Vide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How to Optimize Your Submiss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How to Use Keyword Research to Dominate the Search Engin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And More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Check it Out Today:</a:t>
            </a:r>
            <a:br>
              <a:rPr sz="7200"/>
            </a:br>
            <a:br>
              <a:rPr sz="7200"/>
            </a:b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www.VideoMarketingSecretsUnleashed.c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ideo Marketing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“viral” video can be unstoppable once set in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09:14:42Z</dcterms:created>
  <dc:creator>Matt</dc:creator>
  <dc:description/>
  <dc:language>en-US</dc:language>
  <cp:lastModifiedBy>Matt</cp:lastModifiedBy>
  <dcterms:modified xsi:type="dcterms:W3CDTF">2009-09-24T04:40:45Z</dcterms:modified>
  <cp:revision>75</cp:revision>
  <dc:subject/>
  <dc:title>Social Bookmarking</dc:title>
</cp:coreProperties>
</file>